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D3A-C9EF-402D-B1DA-E88323DC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E48-55C4-4ADE-929E-669C7329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69013-9E5E-49B1-9BAA-B2303406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6486C-3DA4-42EF-A8F0-B593AD30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A0124-7DAE-4FFF-AAC5-69DD3672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5DBFA-DF3F-4AA3-9DFF-F868ED77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92C7-599F-47CE-A358-95359A3A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9A263-3138-4C29-866A-032DA703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D503D-F71D-4598-A80E-945B854C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74C56-CD87-48AF-824C-719B590E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989D2-E7A6-4973-8472-1E8429D9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65246-D093-4C9F-8ED1-2D54F829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374-946E-4FCF-9AB6-137054DA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E8FED-AC03-4E33-9103-34042AFB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E83BD-A3E1-4CEC-BDE7-82EBCAFA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42DF2-0C21-49FB-AAE7-152645BD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2C0D4-F340-4CCB-B55D-1317229A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5D106-F16A-489F-B080-EA0FB82D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869B2-9132-46E7-9365-35E1679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101BF-90EF-44F7-A546-0BE8C8FB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06E27-D6A1-41B8-B256-42D9C75E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AC3EF-F849-47D7-931C-00C7D004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57D13-7537-4424-8FAC-0D9EF758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8A5-B70D-4F5D-A80B-EDF904AB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F9926-A316-49A7-8463-84E0D208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9A92E-FC85-4C5A-8A8E-15EC8109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DB9A1-6A41-4EA8-9401-5D347C17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C221A-F828-4553-A6D7-5B3111D4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6DCFE-230C-49CB-8A7E-E477CE4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BF238-0BE4-4A52-99F1-6A7607A9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F8FDE-FB38-461B-82A5-469768C6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4729B-262D-47E2-9717-B525B31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130D5-7BD7-441B-B341-500327E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D53F8-45D6-465D-AF6A-635A6F31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FEFEC-C0AA-449F-BD39-7E23B95F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A9914-AF93-40CB-9E75-BCE7BC20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43A10-70EE-4F81-A3ED-A84740A1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E626E-079D-4BD8-AEA8-AE2DFB92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60E2E-C17E-40C0-9C63-CF21DC5C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8C5D1-679A-4F43-98DF-6686BFC3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FBD54-BE7A-4677-BEFF-6E434BFB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0ED9B-9AA0-4CCF-98B1-99649F54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AF04E-AC79-4083-B0DF-DEC37B45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886C0-E328-484F-958D-AB31A9CC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D0893-9F0D-4A00-B208-EF2F7484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C06AB-0C7B-4F51-86E6-E3835616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0E163-92F9-4700-8E73-AA5282E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0B4F1-35BE-45B8-AA1E-E22CFD56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EBC18-9A63-464B-A4CC-EA17275A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D22-1998-45F3-945F-45775027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1E07-BEB5-4C63-BD6D-FD61CD36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4B20-D167-40A1-9807-EDEEEC98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BC1C-0BB4-4EE3-89F0-44E07FF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DAF8-4135-48BE-BBFE-7C5C6FFC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79A3-1EDB-428A-B623-9A412F9F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3B4-DEF0-47D7-9FEA-1CCBD73E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DE85-DB7A-4A35-8AEA-A8925737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D59A-B17D-475E-BB98-E13C7CB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016B-9A12-4714-90D9-26B0768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8CA4-9F3B-4B5A-9141-31C8899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AC3D-0DD9-4654-A3CC-332E461C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3ECA-3035-494F-AACE-2FCC95E5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C94C-A736-4964-88CD-7F30D92D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DEA6-5902-4F91-8DA3-B1A63517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37E0-9DBA-4355-902A-F9D962B6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3A59-D9CF-496E-A981-DE630601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D6A-2F3C-45A4-88E7-AEF95783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9463-6DD3-4D4D-BD5F-B75573DF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6AB78-2759-4BC2-A4D6-813B058E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83C6-3748-4F32-ABF9-434EA0A5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2ACB-FBC8-40A3-B241-7B215DF1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2029-DAB1-49F8-A002-459C04B3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AF0E-D302-426B-BFC1-D05D51F8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9BAF-1266-4F11-AC19-792AE66E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1AAE-2FED-4DD6-B7C7-BCC5FAC6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1EB3-FE93-4EEC-879B-158D7F60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050E-3089-42BA-AF01-90B47883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15A-753B-431D-806D-76E0FAD4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5FBD1-DF64-46FD-86D3-04063136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E754-18ED-4CAA-B4BE-6246A535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84C8-D013-417C-AFCD-3F119E69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0B9AF-3418-4C79-9D29-2B207754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EE2E-C718-4307-9890-2DAB603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9C73-75E6-4D0A-84A7-CEADD9DC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8974-C0A3-4582-9B63-5C2926B0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C872-F65E-4153-9C68-92D290F3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DED9B-FB76-4C31-9200-2970DD4C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272F-4611-4FA1-88B5-E7EE1177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921-5278-4D28-877B-0C730219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8015-6652-4CB4-B059-7FC8F6E1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799D6-6438-4DC9-97FD-388ED47C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6DE32-DD87-4712-BCB8-5A67D39E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18B25-25A2-449C-9E07-3FC99D74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4AE66-E5B1-43DE-AD56-1E494DC7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B3FD-B8EA-4747-93A2-CDFC62A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A1EB0-00A4-4EA0-B2A7-BC36BA58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6BF3-D206-43D5-AB35-13FD9C46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E08E-0CCF-49B4-84DD-1FBCC05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C7D9C-74A3-4CDD-9CD9-B3CC4C02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1D6-6920-448F-BC21-5AF48BB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C4D7F-E45D-4558-AE6C-66344F9F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52C6D-DED4-4FAE-8F81-7C6088B6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8DB0-74D4-4904-A9BC-A42EDF05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6EFA-8F5C-49CB-800B-2467C348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CADA-3471-4C33-ADBA-86562FB8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3F0FD-A5E2-43DC-81AF-46F68961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0F16E-C40E-40ED-87C2-0E031C5C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444E-96D3-4031-BA2C-48704C08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E404E-0309-4DC0-8626-0A03FFC8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BC692-17F6-43E1-9FC3-CC1AB5DD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B7C-7D76-4437-A17F-75754C43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7E69-999B-42EC-B4A0-74576555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AE90D-1FE0-4346-A93D-B936F2E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3F25-D14E-46D0-BB56-7E61D8FA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1D0D8-4BD3-4D7B-B6A4-A6C82201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8FE4F-5374-4144-BAD3-FC63DB5C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FE206-EEA8-4F98-A898-8A25F8F9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91165-BE9C-4CEE-9F51-D94F2121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C3FE-2F15-4F44-8484-2B7B4FEF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EBFFD-6197-49A0-B472-4BE42A4C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C1C77-CF43-46EC-B1EF-6D8BB5E0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5BA-6EA9-45AC-BE8F-66DBC56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D6594-4760-4F97-A087-464B8F70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B4B68-CD95-4401-AEBA-0EA3DD46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D01BA-A383-4290-8A9A-0924EE33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17662-8B7B-465D-91AF-A51DF48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7DF07-FFC8-4BB8-B85C-C7237B9D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D7FB2-5D57-4308-9C97-2C01A412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AD47-2951-400D-8B12-FB5DD04F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66296-BB96-4929-B064-FEAE1392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7BE78-4A5E-4F08-A6E9-6E62613C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100F4-E492-444F-9A0C-514BE6B2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D593-C9DE-4C61-BBB0-79148BF50704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Eine Ecke des Rechtecks schneiden und abrunde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Rechtwinkliges Dreiec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Freihand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Freihand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CE0-BF95-4EB8-88FD-E473044987FC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5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6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7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99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00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CF86-923B-4A66-B19F-B9B91E4742FD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45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6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7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49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0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1537-9F8D-4D0D-B0DF-321E871D70D9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9" name="Picture 2" descr=""/>
          <p:cNvPicPr/>
          <p:nvPr/>
        </p:nvPicPr>
        <p:blipFill>
          <a:blip r:embed="rId5"/>
          <a:stretch/>
        </p:blipFill>
        <p:spPr>
          <a:xfrm>
            <a:off x="3286080" y="5286240"/>
            <a:ext cx="2363760" cy="112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FEC3-D38C-41F9-8FFD-64ECF5E9D87C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BDCE-7C8F-44D1-9899-774F0C0B8031}" type="slidenum">
              <a:rPr b="0" lang="de-A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32C3-C237-4053-8638-EEC623D17529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FCB6-329E-45AD-9EFC-87CA6A659B90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8207-5174-4635-8189-176E788071CA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5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DD31-EE27-4540-A462-CD58C6A80376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0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0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A6B5-A462-4B99-9916-F8E50F92AC48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Grafik 4" descr="logo-trans.png"/>
          <p:cNvPicPr/>
          <p:nvPr/>
        </p:nvPicPr>
        <p:blipFill>
          <a:blip r:embed="rId1"/>
          <a:stretch/>
        </p:blipFill>
        <p:spPr>
          <a:xfrm>
            <a:off x="142920" y="1744560"/>
            <a:ext cx="8643960" cy="2470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000840" y="3357360"/>
            <a:ext cx="2854080" cy="571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Game Descrip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Titel 6" descr=""/>
          <p:cNvPicPr/>
          <p:nvPr/>
        </p:nvPicPr>
        <p:blipFill>
          <a:blip r:embed="rId1"/>
          <a:stretch/>
        </p:blipFill>
        <p:spPr>
          <a:xfrm>
            <a:off x="2670120" y="3206880"/>
            <a:ext cx="3498840" cy="1438200"/>
          </a:xfrm>
          <a:prstGeom prst="rect">
            <a:avLst/>
          </a:prstGeom>
          <a:ln w="0">
            <a:noFill/>
          </a:ln>
        </p:spPr>
      </p:pic>
      <p:sp>
        <p:nvSpPr>
          <p:cNvPr id="63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49D6-F6C7-4923-BA24-478E08D29AB3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Eigenschaften von Objekt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as sind Objekt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Or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rden als Punkte auf der Karte dargestel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sitzt einen Wirkungsberei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Kre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Bezieht sich auf die Größe des Spielfeldes (min. 2m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Bezieht sich auf die Größe des Spielfeldes (min. 5m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3C85-F6F4-40F4-B2C8-9894BF4F4326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kar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Krei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Größ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Bestimmt der eingestellte Radiu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Big  Bos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Mafiosi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Aufträge (A – B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Chief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Agent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Office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09D7-DB53-4380-99B5-BC1DA8A312B8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itel 6" descr=""/>
          <p:cNvPicPr/>
          <p:nvPr/>
        </p:nvPicPr>
        <p:blipFill>
          <a:blip r:embed="rId1"/>
          <a:stretch/>
        </p:blipFill>
        <p:spPr>
          <a:xfrm>
            <a:off x="2309760" y="2567160"/>
            <a:ext cx="4456080" cy="1431720"/>
          </a:xfrm>
          <a:prstGeom prst="rect">
            <a:avLst/>
          </a:prstGeom>
          <a:ln w="0">
            <a:noFill/>
          </a:ln>
        </p:spPr>
      </p:pic>
      <p:sp>
        <p:nvSpPr>
          <p:cNvPr id="648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4241-1B05-4575-8463-C0360275CF69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truktu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30D-C117-4786-A20A-2D58C4BC1B80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5" name="Diagramm 8" descr=""/>
          <p:cNvPicPr/>
          <p:nvPr/>
        </p:nvPicPr>
        <p:blipFill>
          <a:blip r:embed="rId1"/>
          <a:stretch/>
        </p:blipFill>
        <p:spPr>
          <a:xfrm>
            <a:off x="774720" y="1517760"/>
            <a:ext cx="76500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999880" y="785880"/>
            <a:ext cx="33577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Hauptmen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8A73-0115-4D37-A435-A9E1F193B326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0" name="Inhaltsplatzhalter 9" descr="CMIYC_MainMenue.jpg"/>
          <p:cNvPicPr/>
          <p:nvPr/>
        </p:nvPicPr>
        <p:blipFill>
          <a:blip r:embed="rId1"/>
          <a:stretch/>
        </p:blipFill>
        <p:spPr>
          <a:xfrm>
            <a:off x="1785960" y="1714680"/>
            <a:ext cx="548640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Spiel erstelle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62" name="Inhaltsplatzhalter 7" descr="CMIYC_SpielErstellen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663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1A67-B9F1-4618-B999-1498314CA2DC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100" spc="-1" strike="noStrike">
                <a:solidFill>
                  <a:srgbClr val="04617b"/>
                </a:solidFill>
                <a:latin typeface="Calibri"/>
              </a:rPr>
              <a:t>Spiel beitreten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5CFD-C099-42C6-ADF7-41A42E7D3C02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0" name="Inhaltsplatzhalter 8" descr="CMIYC_SpielBeitreten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1C3D-1D83-49C6-BC9A-EEADA28C012A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100" spc="-1" strike="noStrike">
                <a:solidFill>
                  <a:srgbClr val="04617b"/>
                </a:solidFill>
                <a:latin typeface="Calibri"/>
              </a:rPr>
              <a:t>Spiel Channel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75" name="Inhaltsplatzhalter 10" descr="CMIYC_WarteRaum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Titel 6" descr=""/>
          <p:cNvPicPr/>
          <p:nvPr/>
        </p:nvPicPr>
        <p:blipFill>
          <a:blip r:embed="rId1"/>
          <a:stretch/>
        </p:blipFill>
        <p:spPr>
          <a:xfrm>
            <a:off x="2309760" y="2987640"/>
            <a:ext cx="4256280" cy="1157400"/>
          </a:xfrm>
          <a:prstGeom prst="rect">
            <a:avLst/>
          </a:prstGeom>
          <a:ln w="0">
            <a:noFill/>
          </a:ln>
        </p:spPr>
      </p:pic>
      <p:sp>
        <p:nvSpPr>
          <p:cNvPr id="67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D383-6DE7-485B-BB3E-0B3B6BA40137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Allgemei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nline Spiel für mobile Endgerä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Nutzt G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eines Multiplayer Spi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ombination au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chnitzeljag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Räuber und Genda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44AE-6D65-4FE0-A2AD-957F6C6C2745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Spielstar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er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eneriert die Position der Hauptquartiere der Te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eichnet diese auf der Karte e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ehen zu ihren Hauptquartie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ch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etzt eine bestimmte Anzahl von Agents auf der Kar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 begin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54F7-9ED0-4228-ACEF-D7DBABC9077F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Aufgaben der Te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i aufspüren und verhaft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ufspür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ichtkontank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eldung von Ag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Verhaft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Indem sich ein Polizist eine bestimmte Zeit im Bereich eines Mafioso aufhä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ufträge ausführe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Mafiosi müssen ein Objekt von A nach B transportier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B9FB-BC66-417F-B8E8-7F75799A82C6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Ereignis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 wird gefas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Polizei erhält Punk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o kann eine bestimmte Zeit lang keine Aufträge annehm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 muss zurück zum Hauptquarti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 erfüllt einen Auftra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 erhält Punk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7AC4-61A7-4BE7-994C-B4D56FB74F5B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Titel 6" descr=""/>
          <p:cNvPicPr/>
          <p:nvPr/>
        </p:nvPicPr>
        <p:blipFill>
          <a:blip r:embed="rId1"/>
          <a:stretch/>
        </p:blipFill>
        <p:spPr>
          <a:xfrm>
            <a:off x="1779480" y="2852640"/>
            <a:ext cx="5085000" cy="1433520"/>
          </a:xfrm>
          <a:prstGeom prst="rect">
            <a:avLst/>
          </a:prstGeom>
          <a:ln w="0">
            <a:noFill/>
          </a:ln>
        </p:spPr>
      </p:pic>
      <p:sp>
        <p:nvSpPr>
          <p:cNvPr id="69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A98-339D-4CAD-886F-4D3BD05AE269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einstellung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pielna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Test FH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Dauer um einen Mafioso zu fasse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1 mi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reeztime eines Mafios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2 mi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Punkteanzah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300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aximal Spieleranzah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6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Anzahl der Ag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Radius des Spielfeld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200m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4797-4651-42FC-BA64-37DE05C444E9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ig Boss erhält Auftr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uftra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Inhal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Stehlen sie 10 Gewehre von Luigi und liefern sie die Ware bei Don Charly ab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Wer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10 Punk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13EF-855F-4002-BB89-3D62CC44E9AC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ig Boss verteilt die Aufträ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. Auftra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an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nd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772A-6444-42A6-B7C3-B6FA2B14A316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zenari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ni und Andi holen die Ware a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finden sich auf dem Weg zum Übergabe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rden jedoch von einem Agent gesicht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fficer verfolgt s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ni kann nicht entkommen und wird gefas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ndi entkomm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esultat: Mission Fehlgeschla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43A9-A172-4D6C-9035-09E5B514ECD4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Karte aus Sicht der Mafios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0" name="Inhaltsplatzhalter 6" descr="CMIYC_MAP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72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D428-D91B-49DE-82C2-C6B77AA3F6C6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Textfeld 7"/>
          <p:cNvSpPr/>
          <p:nvPr/>
        </p:nvSpPr>
        <p:spPr>
          <a:xfrm>
            <a:off x="5286240" y="2714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Luig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Textfeld 8"/>
          <p:cNvSpPr/>
          <p:nvPr/>
        </p:nvSpPr>
        <p:spPr>
          <a:xfrm>
            <a:off x="4214880" y="55008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Don Car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Textfeld 9"/>
          <p:cNvSpPr/>
          <p:nvPr/>
        </p:nvSpPr>
        <p:spPr>
          <a:xfrm>
            <a:off x="4500720" y="4643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Big Bo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Textfeld 10"/>
          <p:cNvSpPr/>
          <p:nvPr/>
        </p:nvSpPr>
        <p:spPr>
          <a:xfrm>
            <a:off x="3071880" y="2857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Textfeld 11"/>
          <p:cNvSpPr/>
          <p:nvPr/>
        </p:nvSpPr>
        <p:spPr>
          <a:xfrm>
            <a:off x="4071960" y="3357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Dan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Textfeld 12"/>
          <p:cNvSpPr/>
          <p:nvPr/>
        </p:nvSpPr>
        <p:spPr>
          <a:xfrm>
            <a:off x="5429160" y="3357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An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730" name="Gerade Verbindung mit Pfeil 14"/>
          <p:cNvCxnSpPr/>
          <p:nvPr/>
        </p:nvCxnSpPr>
        <p:spPr>
          <a:xfrm flipV="1">
            <a:off x="3571560" y="2999880"/>
            <a:ext cx="142956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1" name="Gerade Verbindung mit Pfeil 15"/>
          <p:cNvCxnSpPr/>
          <p:nvPr/>
        </p:nvCxnSpPr>
        <p:spPr>
          <a:xfrm flipH="1">
            <a:off x="4142880" y="3071520"/>
            <a:ext cx="1286640" cy="242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Inhaltsplatzhalter 7" descr="CMIYC_MAP_v2.jpg"/>
          <p:cNvPicPr/>
          <p:nvPr/>
        </p:nvPicPr>
        <p:blipFill>
          <a:blip r:embed="rId1"/>
          <a:stretch/>
        </p:blipFill>
        <p:spPr>
          <a:xfrm>
            <a:off x="1785960" y="192888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Karte aus Sicht der Polize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537B-DD0A-40E6-9CD3-6DB7ED29D9E1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Textfeld 8"/>
          <p:cNvSpPr/>
          <p:nvPr/>
        </p:nvSpPr>
        <p:spPr>
          <a:xfrm>
            <a:off x="5286240" y="2714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Textfeld 9"/>
          <p:cNvSpPr/>
          <p:nvPr/>
        </p:nvSpPr>
        <p:spPr>
          <a:xfrm>
            <a:off x="7215120" y="35002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tantia"/>
              </a:rPr>
              <a:t>Mafio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Textfeld 11"/>
          <p:cNvSpPr/>
          <p:nvPr/>
        </p:nvSpPr>
        <p:spPr>
          <a:xfrm>
            <a:off x="5857920" y="45720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Ber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Textfeld 12"/>
          <p:cNvSpPr/>
          <p:nvPr/>
        </p:nvSpPr>
        <p:spPr>
          <a:xfrm>
            <a:off x="4000680" y="5000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Flussdiagramm: Verbindungsstelle 14"/>
          <p:cNvSpPr/>
          <p:nvPr/>
        </p:nvSpPr>
        <p:spPr>
          <a:xfrm>
            <a:off x="4786200" y="3429000"/>
            <a:ext cx="928800" cy="785880"/>
          </a:xfrm>
          <a:prstGeom prst="flowChartConnector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Textfeld 10"/>
          <p:cNvSpPr/>
          <p:nvPr/>
        </p:nvSpPr>
        <p:spPr>
          <a:xfrm>
            <a:off x="7215120" y="3857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743" name="Gerade Verbindung mit Pfeil 16"/>
          <p:cNvCxnSpPr/>
          <p:nvPr/>
        </p:nvCxnSpPr>
        <p:spPr>
          <a:xfrm flipH="1" flipV="1">
            <a:off x="5428800" y="3571200"/>
            <a:ext cx="1572480" cy="143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4" name="Gerade Verbindung mit Pfeil 17"/>
          <p:cNvCxnSpPr/>
          <p:nvPr/>
        </p:nvCxnSpPr>
        <p:spPr>
          <a:xfrm flipH="1" flipV="1">
            <a:off x="5500080" y="3857040"/>
            <a:ext cx="1572120" cy="143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5" name="Gerade Verbindung mit Pfeil 19"/>
          <p:cNvCxnSpPr/>
          <p:nvPr/>
        </p:nvCxnSpPr>
        <p:spPr>
          <a:xfrm flipH="1" flipV="1">
            <a:off x="5357160" y="3999960"/>
            <a:ext cx="214920" cy="50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Voraussetzung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GPS fähiges Handy oder P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lattform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icrosoft .n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Internetverbindu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P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UM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SDP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SUP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7D3F-86B0-46EA-9B17-A5D0522B5FBB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Titel 6" descr=""/>
          <p:cNvPicPr/>
          <p:nvPr/>
        </p:nvPicPr>
        <p:blipFill>
          <a:blip r:embed="rId1"/>
          <a:stretch/>
        </p:blipFill>
        <p:spPr>
          <a:xfrm>
            <a:off x="23760" y="2060640"/>
            <a:ext cx="8255160" cy="2011320"/>
          </a:xfrm>
          <a:prstGeom prst="rect">
            <a:avLst/>
          </a:prstGeom>
          <a:ln w="0">
            <a:noFill/>
          </a:ln>
        </p:spPr>
      </p:pic>
      <p:sp>
        <p:nvSpPr>
          <p:cNvPr id="74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4936-DE5D-400A-8044-B4ED5D36B802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Geplante Umsetzu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erver – Client Prinz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ommunikation im Spi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Nachrichte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n einzelne Spiel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n al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F892-18F6-42CA-94B5-DC30864C3FDE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Titel 6" descr=""/>
          <p:cNvPicPr/>
          <p:nvPr/>
        </p:nvPicPr>
        <p:blipFill>
          <a:blip r:embed="rId1"/>
          <a:stretch/>
        </p:blipFill>
        <p:spPr>
          <a:xfrm>
            <a:off x="1384200" y="2567160"/>
            <a:ext cx="6345360" cy="1431720"/>
          </a:xfrm>
          <a:prstGeom prst="rect">
            <a:avLst/>
          </a:prstGeom>
          <a:ln w="0">
            <a:noFill/>
          </a:ln>
        </p:spPr>
      </p:pic>
      <p:sp>
        <p:nvSpPr>
          <p:cNvPr id="61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DB1B-1226-47F7-846B-EC16AA54B775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Worum geht’s bei CMIY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2 Team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Führt Aufträge au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Vereitelt Aufträge der Mafi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Ziel des Spiel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reichung einer bestimmten Punkteanzah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1FD-4DA7-412F-B5B6-976713BDCEF5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Titel 6" descr=""/>
          <p:cNvPicPr/>
          <p:nvPr/>
        </p:nvPicPr>
        <p:blipFill>
          <a:blip r:embed="rId1"/>
          <a:stretch/>
        </p:blipFill>
        <p:spPr>
          <a:xfrm>
            <a:off x="2951280" y="2639880"/>
            <a:ext cx="2816280" cy="1432080"/>
          </a:xfrm>
          <a:prstGeom prst="rect">
            <a:avLst/>
          </a:prstGeom>
          <a:ln w="0">
            <a:noFill/>
          </a:ln>
        </p:spPr>
      </p:pic>
      <p:sp>
        <p:nvSpPr>
          <p:cNvPr id="620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AFB0-FBF9-4FD7-99B9-B4A3221DC255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Maf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ig Bo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hält Aufträge vom Serv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Vergibt Aufträge an die Mafio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eaktiviert Agent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füllt Missionen für den Big Bo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tartpunkt der Maf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estandteil von Aufträ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B784-28D0-473E-90F4-EC1491B9F23C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Polize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nstantia"/>
              </a:rPr>
              <a:t>Startpunkt der Polizist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NP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päher mit bestimmtem Überwachungsberei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eldet Aktivitäten an die gesamte Polize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Anzahl sowie Überwachungsbereich hängen von der Größe des Spielfeldes a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Offic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Verhaftet Mafio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Chief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etzt Ag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Kann Agents reaktivier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E771-3CBE-4900-97EF-E62FF5D00AAD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39:19Z</dcterms:created>
  <dc:creator>Daniel Marschnig</dc:creator>
  <dc:description/>
  <dc:language>en-US</dc:language>
  <cp:lastModifiedBy>erlacher</cp:lastModifiedBy>
  <dcterms:modified xsi:type="dcterms:W3CDTF">2010-07-28T08:59:20Z</dcterms:modified>
  <cp:revision>95</cp:revision>
  <dc:subject/>
  <dc:title>Folie 1</dc:title>
</cp:coreProperties>
</file>